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19DE-7FB3-4FC2-B88D-27E3DDC636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C78-2695-4560-876A-D9E6B1F10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108-3AD6-42B0-A773-57756D73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575-34C3-4063-908A-AF113FA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9EF-7D39-43A0-9CC0-49B36984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078-3CF6-462D-9455-5F6D0247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8EA-D4FC-4B72-8EF1-17079B82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B40-E43B-4E81-BEDD-63983B2E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EDCF-154A-41FF-9F93-BB7791F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D945-0D25-47AE-8BDF-4AC60254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8A46-F9EB-4BE5-97F1-58F9489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F06-F475-41FC-B233-BA81BDA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6B70-5A63-4FE7-AD2D-E75EA2AE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652-3555-4C13-8053-8F5B6BDB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E088-1C8B-444E-8753-F6AAADEC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B321-7E81-40B0-BCCF-DCBE8CE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74C9-BC3D-45E7-890A-5DEA0AC7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6A92-3AF6-461F-BB1B-C0E5D9FC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E79C-990A-4AE5-A92B-1DA975CA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1EF2-7FB4-4CE4-AE58-9C6D381E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3C6C-7273-4FFE-94F4-EFA7402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AE7F-D5EA-4059-83DD-5A3823A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E338-EAFB-4D8D-9CD1-D980FFE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2531-C760-4D23-8DAE-02F74C9E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694-0F1C-4A4E-B183-9A9B90C5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EA25-28FD-4187-923F-E8DF9AE9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BD40-FC47-46D7-B186-841C93E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77651-F688-4515-948B-C4B68FD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14EDD-53EC-46FC-9866-F465074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B6A1-AFFD-44DD-B686-2EFD9FDA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9B57-CCE6-4A74-ACC6-6DE8FF57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C45D-0EC6-43AA-A80F-4B54ABB0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26AC-C75A-4DC5-AA81-07B9255E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61E6-E50D-4416-B161-D55BF16B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7D57C-638C-4B6D-AD11-E494E52A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262-170B-4D17-BE52-63F43C4D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A325-3521-4868-8A2E-D01AD732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1280-AB9C-4AAE-A36F-C193E3F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C2CA-24D8-4712-8781-9239606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56B8-B495-4DAA-9E98-6653745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0837-56A5-4036-9701-A7368114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512C-84EE-42E4-9C88-38067A7D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DE48F-8B5A-463C-B8BE-86646325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68B3-EA65-446A-A941-41018E93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B763-F412-4F83-A0F9-39DCC660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6F62-3181-4A0E-8B30-A8C6021C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F68-6913-40DE-9ED1-48D3963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4C71-E971-4D03-94F8-D9AC79F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82E2D-C752-4658-8755-734974DD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CDEC8-113C-411A-9E03-2F88FB88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3AEA-3E40-452D-B7F7-CA74625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9EC71-7302-43AA-97E4-A25568A6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5B9A4-506F-407B-B436-0506B73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BAB2-314D-4FDE-A1F0-D36E0F84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70C1-D42A-485A-AF05-C267A98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B2A5-5C99-49C6-911F-07A85AF8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E846D-ABDF-4680-B433-5CA39EF5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52A-9F34-47E5-989A-C33524F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C716-170E-4959-8E4B-87451CB7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4D57-DE5B-4CE8-B5BC-E9D78628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9166E-689A-400D-A6BD-9E7F3EE1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35F5-753E-473F-A29E-5E3CB516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003D-99F5-49A4-81F6-E594C871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E911-9287-434A-A6B7-9BAA5081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4609-4DD2-42E0-896F-D985D831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7327-6D4E-4585-8C73-D8089BD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33161-B9D2-4056-9ABD-F6E0A6F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245EA-0A7C-4870-86F3-7101785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904-38E8-4773-9BFA-08AEC7E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8A42E-81FB-47B8-89AA-F7B0BE68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4AC4-A466-40E3-940D-6C648D16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7AA5-68E8-4DAB-932A-F89EB47C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01AB-3668-4CC7-BB19-F55C16CD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84EB-D18B-4E00-9488-53A645C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E7B5-6EFF-42AC-BEBF-2837BEB4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5A5E-E36E-47B0-9715-DA55163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9DEAF-1FBE-4270-91FE-866F6EEC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3B4D-4435-4954-A499-18E6850F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5FDC9-6D9F-45A5-A0A3-1B4C346F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8B1-7AB8-4D52-B0D1-9AF8A49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50669-6E09-4BFB-B88D-767B70B5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14D1B-8C72-4A24-BEB4-F788DB52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3155-DDED-47FB-B9C0-5811AF7D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ABD6C-691F-4AAA-BDDC-035E2761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A92B3-54B2-4BEB-867F-08EFE360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380-4C3A-481F-8252-DF4411F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eb80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00add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38ac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5E01-B97D-4B30-A399-DD6BD7553E35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EE0-3E06-4614-BE00-9D54E83C63F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eb80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00add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738ac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9505-00B6-4F10-AA49-1156DB08F50B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9423-A5D0-4AD5-A3E8-F68481A987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eb80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00add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738ac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605-0D72-4473-8CD1-EC5EA4FD1BB7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F910-596C-4D0F-9CFB-EB64C7057D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eb80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00add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38ac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CC6-ABA9-4268-BD0B-24226FEEE6BA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BE2-A34A-48DA-AC2E-4C169B71C71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eb80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00add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38ac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6CE6-F982-4017-9ADB-C1D8FD48EF64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39C3-0D58-4C17-9FE4-2897F0F760B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eb80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00add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38ac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9F8F-4D00-425A-B26A-6582A203AB99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CF0-80FC-4BDF-9B15-04550318AEB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bf616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7bf616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eb80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00add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38ac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D7FC-AC16-465C-978C-0B8C8D75DA8B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046F-700C-4FB0-93A9-26B04742DF6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51960" cy="29145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971800" y="510516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  <a:ea typeface="Times New Roman"/>
              </a:rPr>
              <a:t>Зарипова    Халима  Сафуановна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rbel"/>
                <a:ea typeface="Times New Roman"/>
              </a:rPr>
              <a:t>учитель химии, МБОУ Лицей города Абдулино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rbel"/>
                <a:ea typeface="Times New Roman"/>
              </a:rPr>
              <a:t>Абдулинский городской округ, Оренбургская область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231840" y="-304920"/>
            <a:ext cx="8717040" cy="1938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n331"/>
          <p:cNvPicPr/>
          <p:nvPr/>
        </p:nvPicPr>
        <p:blipFill>
          <a:blip r:embed="rId2"/>
          <a:stretch/>
        </p:blipFill>
        <p:spPr>
          <a:xfrm>
            <a:off x="1146240" y="1600200"/>
            <a:ext cx="6851520" cy="28195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1028880" y="4648320"/>
            <a:ext cx="708660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числа распавшихся молекул к общему числу молекул в раств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1981080" y="6075360"/>
            <a:ext cx="5334120" cy="459720"/>
          </a:xfrm>
          <a:prstGeom prst="rect">
            <a:avLst/>
          </a:prstGeom>
          <a:solidFill>
            <a:srgbClr val="ccedb1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э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8"/>
          <p:cNvSpPr/>
          <p:nvPr/>
        </p:nvSpPr>
        <p:spPr>
          <a:xfrm>
            <a:off x="4343400" y="54100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7030a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электропроводности соляной, азотной, уксусной кислот с помощью датчика электропроводности. Результаты измерения занести в таблицу (ход эксперимента см. Инструктивная карточка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762120" y="2971800"/>
          <a:ext cx="7772400" cy="2754360"/>
        </p:xfrm>
        <a:graphic>
          <a:graphicData uri="http://schemas.openxmlformats.org/drawingml/2006/table">
            <a:tbl>
              <a:tblPr/>
              <a:tblGrid>
                <a:gridCol w="1447560"/>
                <a:gridCol w="3733920"/>
                <a:gridCol w="2590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начение электропроводности, мкСм/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звание выданного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раствор соляной кислоты лучше проводит электрический ток по сравнению с раствором уксусной кислоты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им электролитам относится раствор азотной кислоты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й силы электролита может служит степень диссоциации α. Это отношение числа распавшихся на ионы молекул (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общему числу молекул (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значально попавших в раствор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эксперимента можно отметить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HNO3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электролит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3COOH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 электролит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Рисунок 3" descr="http://www.hemi.nsu.ru/im221_06.gif"/>
          <p:cNvPicPr/>
          <p:nvPr/>
        </p:nvPicPr>
        <p:blipFill>
          <a:blip r:embed="rId2"/>
          <a:stretch/>
        </p:blipFill>
        <p:spPr>
          <a:xfrm>
            <a:off x="3352680" y="2743200"/>
            <a:ext cx="2210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n333"/>
          <p:cNvPicPr/>
          <p:nvPr/>
        </p:nvPicPr>
        <p:blipFill>
          <a:blip r:embed="rId1"/>
          <a:stretch/>
        </p:blipFill>
        <p:spPr>
          <a:xfrm>
            <a:off x="380880" y="223920"/>
            <a:ext cx="838224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n334"/>
          <p:cNvPicPr/>
          <p:nvPr/>
        </p:nvPicPr>
        <p:blipFill>
          <a:blip r:embed="rId1"/>
          <a:stretch/>
        </p:blipFill>
        <p:spPr>
          <a:xfrm>
            <a:off x="228600" y="380880"/>
            <a:ext cx="8648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7" descr="n336"/>
          <p:cNvPicPr/>
          <p:nvPr/>
        </p:nvPicPr>
        <p:blipFill>
          <a:blip r:embed="rId1"/>
          <a:stretch/>
        </p:blipFill>
        <p:spPr>
          <a:xfrm>
            <a:off x="343080" y="3430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Формулы только слабых электролитов представлены в ряд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Ca(OH)2, H2S, H2SO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H2CO3, NH3∙H2O, H2S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KOH, KNO3, HC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Написать  электролитическую  диссоциацию   следующих  электролитов:  карбоната натрия, гидроксида  кальция,  борной кис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Дата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B757-4A1C-4CF3-88A6-B55CEF2ECEF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9A8-F2A2-4100-BE7E-D9BB8C4D5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http://www.freeppt.net/background/summer_landscape_holidays_pptbackgrounds.jpg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369" name="Заголовок 1" descr=""/>
          <p:cNvPicPr/>
          <p:nvPr/>
        </p:nvPicPr>
        <p:blipFill>
          <a:blip r:embed="rId2"/>
          <a:stretch/>
        </p:blipFill>
        <p:spPr>
          <a:xfrm>
            <a:off x="85680" y="-19080"/>
            <a:ext cx="8906040" cy="114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3581280" y="1420920"/>
          <a:ext cx="5181840" cy="4081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371" name="TextBox 8"/>
          <p:cNvSpPr/>
          <p:nvPr/>
        </p:nvSpPr>
        <p:spPr>
          <a:xfrm>
            <a:off x="409680" y="1014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1368360" y="1609560"/>
            <a:ext cx="151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277920" y="232884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1811160" y="2708280"/>
            <a:ext cx="101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361800" y="4581360"/>
            <a:ext cx="123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gC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1302120" y="3981600"/>
            <a:ext cx="119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113040" y="3378240"/>
            <a:ext cx="175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92 0.01736 L 0.33542 0.27291 E">
                                      <p:cBhvr>
                                        <p:cTn id="193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15 0.02847 L 0.34219 0.30625 E">
                                      <p:cBhvr>
                                        <p:cTn id="197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25 0.1 E">
                                      <p:cBhvr>
                                        <p:cTn id="201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0486 L 0.35278 0.2507 E">
                                      <p:cBhvr>
                                        <p:cTn id="205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0.60903 0.02847 E">
                                      <p:cBhvr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045E-016 L 0.64844 0.08403 E">
                                      <p:cBhvr>
                                        <p:cTn id="213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7 0.00625 L 0.35764 0.08403 E">
                                      <p:cBhvr>
                                        <p:cTn id="217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5335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жды в химическом форуме один школьник написал: «а я ваще не понимаю (именно так было написано),  почему NaCl в растворе распадается на Na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 Cl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а не на Na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 Cl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». Как бы вы объяснили бедолаге суть происходящего в растворе? Какой важный раздел химии в свое время «прогулял» наш незадачливый школьник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-139680"/>
            <a:ext cx="8686800" cy="1809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609480" y="1676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orbel"/>
              </a:rPr>
              <a:t>Консультация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/>
          <a:srcRect l="13104" t="15625" r="36824" b="34375"/>
          <a:stretch/>
        </p:blipFill>
        <p:spPr>
          <a:xfrm>
            <a:off x="152280" y="2819520"/>
            <a:ext cx="4884840" cy="2743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3"/>
          <a:srcRect l="18375" t="14065" r="41218" b="29690"/>
          <a:stretch/>
        </p:blipFill>
        <p:spPr>
          <a:xfrm>
            <a:off x="5486400" y="3124080"/>
            <a:ext cx="3519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8" descr="http://www.freeppt.net/background/summer_landscape_holidays_pptbackgrounds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gregstevens.com/wp-content/uploads/2013/03/6e7fd88531c08e9ff2bfeb777c09b3c56e46efee.png"/>
          <p:cNvPicPr/>
          <p:nvPr/>
        </p:nvPicPr>
        <p:blipFill>
          <a:blip r:embed="rId2"/>
          <a:stretch/>
        </p:blipFill>
        <p:spPr>
          <a:xfrm>
            <a:off x="7408800" y="334980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166C-7D26-4CD0-ADFC-161D0C3DF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"/>
          <p:cNvSpPr/>
          <p:nvPr/>
        </p:nvSpPr>
        <p:spPr>
          <a:xfrm>
            <a:off x="152280" y="0"/>
            <a:ext cx="8704440" cy="1312920"/>
          </a:xfrm>
          <a:prstGeom prst="rect">
            <a:avLst/>
          </a:prstGeom>
          <a:solidFill>
            <a:srgbClr val="0000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пределите уровень своей успешности  на заня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7"/>
          <p:cNvSpPr/>
          <p:nvPr/>
        </p:nvSpPr>
        <p:spPr>
          <a:xfrm>
            <a:off x="609480" y="3589200"/>
            <a:ext cx="5715000" cy="1295640"/>
          </a:xfrm>
          <a:prstGeom prst="rect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cap="rnd" w="38160">
            <a:solidFill>
              <a:srgbClr val="feb604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- Мне не всё понятно, в моей работе есть ошибки, мне нужна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Блок-схема: процесс 8"/>
          <p:cNvSpPr/>
          <p:nvPr/>
        </p:nvSpPr>
        <p:spPr>
          <a:xfrm>
            <a:off x="762120" y="4038480"/>
            <a:ext cx="304560" cy="304920"/>
          </a:xfrm>
          <a:prstGeom prst="flowChartProcess">
            <a:avLst/>
          </a:prstGeom>
          <a:solidFill>
            <a:srgbClr val="ff0066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609480" y="1447920"/>
            <a:ext cx="5715000" cy="1295280"/>
          </a:xfrm>
          <a:prstGeom prst="rect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cap="rnd" w="38160">
            <a:solidFill>
              <a:srgbClr val="feb604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- Я разобрался с предложенными заданиями. Мне всё поня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Блок-схема: узел 13"/>
          <p:cNvSpPr/>
          <p:nvPr/>
        </p:nvSpPr>
        <p:spPr>
          <a:xfrm>
            <a:off x="762120" y="2286000"/>
            <a:ext cx="380880" cy="380880"/>
          </a:xfrm>
          <a:prstGeom prst="flowChartConnector">
            <a:avLst/>
          </a:prstGeom>
          <a:solidFill>
            <a:srgbClr val="ff0066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с вырезом 14"/>
          <p:cNvSpPr/>
          <p:nvPr/>
        </p:nvSpPr>
        <p:spPr>
          <a:xfrm rot="10645200">
            <a:off x="6408000" y="1911240"/>
            <a:ext cx="746280" cy="392400"/>
          </a:xfrm>
          <a:custGeom>
            <a:avLst/>
            <a:gdLst>
              <a:gd name="textAreaLeft" fmla="*/ 97920 w 746280"/>
              <a:gd name="textAreaRight" fmla="*/ 648360 w 746280"/>
              <a:gd name="textAreaTop" fmla="*/ 97920 h 392400"/>
              <a:gd name="textAreaBottom" fmla="*/ 294480 h 39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24" y="5400"/>
                </a:lnTo>
                <a:lnTo>
                  <a:pt x="15924" y="0"/>
                </a:lnTo>
                <a:lnTo>
                  <a:pt x="21600" y="10800"/>
                </a:lnTo>
                <a:lnTo>
                  <a:pt x="15924" y="21600"/>
                </a:lnTo>
                <a:lnTo>
                  <a:pt x="15924" y="16200"/>
                </a:lnTo>
                <a:lnTo>
                  <a:pt x="0" y="16200"/>
                </a:lnTo>
                <a:lnTo>
                  <a:pt x="28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трелка вправо с вырезом 15"/>
          <p:cNvSpPr/>
          <p:nvPr/>
        </p:nvSpPr>
        <p:spPr>
          <a:xfrm rot="10645200">
            <a:off x="6473520" y="3935160"/>
            <a:ext cx="745920" cy="392040"/>
          </a:xfrm>
          <a:custGeom>
            <a:avLst/>
            <a:gdLst>
              <a:gd name="textAreaLeft" fmla="*/ 97920 w 745920"/>
              <a:gd name="textAreaRight" fmla="*/ 648000 w 745920"/>
              <a:gd name="textAreaTop" fmla="*/ 97920 h 392040"/>
              <a:gd name="textAreaBottom" fmla="*/ 294120 h 392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24" y="5400"/>
                </a:lnTo>
                <a:lnTo>
                  <a:pt x="15924" y="0"/>
                </a:lnTo>
                <a:lnTo>
                  <a:pt x="21600" y="10800"/>
                </a:lnTo>
                <a:lnTo>
                  <a:pt x="15924" y="21600"/>
                </a:lnTo>
                <a:lnTo>
                  <a:pt x="15924" y="16200"/>
                </a:lnTo>
                <a:lnTo>
                  <a:pt x="0" y="16200"/>
                </a:lnTo>
                <a:lnTo>
                  <a:pt x="28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478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Похожее изображение"/>
          <p:cNvPicPr/>
          <p:nvPr/>
        </p:nvPicPr>
        <p:blipFill>
          <a:blip r:embed="rId3"/>
          <a:stretch/>
        </p:blipFill>
        <p:spPr>
          <a:xfrm>
            <a:off x="7391520" y="1600200"/>
            <a:ext cx="1562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40280" cy="63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ЦЕЛИ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192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lnSpc>
                <a:spcPct val="100000"/>
              </a:lnSpc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условий  для проведении  эксперимента  по определению сильных и  слабых  электролитов  с использованием  оборуд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чки рост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1640" y="228240"/>
            <a:ext cx="4041720" cy="63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ЗАДАЧИ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16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вторить основные понятия  по теме «Электролитическая             диссоциация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ширить  знания учащихся  о слабых и сильных  электролитах; отработать  умения учащихся  определять  силу электролита с использованием   датчика  электропроводности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вивать умение  анализировать, обобщать и делать  выво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8" descr=""/>
          <p:cNvPicPr/>
          <p:nvPr/>
        </p:nvPicPr>
        <p:blipFill>
          <a:blip r:embed="rId1"/>
          <a:stretch/>
        </p:blipFill>
        <p:spPr>
          <a:xfrm>
            <a:off x="1017720" y="133200"/>
            <a:ext cx="7145280" cy="1562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33520" y="1600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электролитической  диссоциацией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электролитами и   неэлектролитами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определяет  силу электролита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ионы и на какие группы они делятся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атионы и анионы получили такое название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называется степенью  электролитической  диссоциаци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7fd13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4" descr="n311"/>
          <p:cNvPicPr/>
          <p:nvPr/>
        </p:nvPicPr>
        <p:blipFill>
          <a:blip r:embed="rId2"/>
          <a:stretch/>
        </p:blipFill>
        <p:spPr>
          <a:xfrm>
            <a:off x="6095880" y="4495680"/>
            <a:ext cx="2819520" cy="22021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609480" y="-23760"/>
            <a:ext cx="8315280" cy="171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Сванте Аррениус"/>
          <p:cNvPicPr/>
          <p:nvPr/>
        </p:nvPicPr>
        <p:blipFill>
          <a:blip r:embed="rId2"/>
          <a:stretch/>
        </p:blipFill>
        <p:spPr>
          <a:xfrm>
            <a:off x="228600" y="1676520"/>
            <a:ext cx="25146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25" name="Text Box 10"/>
          <p:cNvSpPr/>
          <p:nvPr/>
        </p:nvSpPr>
        <p:spPr>
          <a:xfrm>
            <a:off x="228600" y="5410080"/>
            <a:ext cx="3809880" cy="398880"/>
          </a:xfrm>
          <a:prstGeom prst="rect">
            <a:avLst/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. А. Аррениус (1859-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 flipH="1">
            <a:off x="-12036600" y="3244680"/>
            <a:ext cx="304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растворения электролитов сопровождается образованием заряженных частиц, способных проводить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3581280" y="1828800"/>
            <a:ext cx="5257800" cy="1618560"/>
          </a:xfrm>
          <a:prstGeom prst="rect">
            <a:avLst/>
          </a:prstGeom>
          <a:solidFill>
            <a:srgbClr val="ffff00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створения или плавления электролитов сопровождается образов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женных частиц, способных проводить электрический 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29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31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033"/>
          <p:cNvSpPr/>
          <p:nvPr/>
        </p:nvSpPr>
        <p:spPr>
          <a:xfrm>
            <a:off x="1905120" y="2971800"/>
            <a:ext cx="419040" cy="812880"/>
          </a:xfrm>
          <a:prstGeom prst="downArrow">
            <a:avLst>
              <a:gd name="adj1" fmla="val 50000"/>
              <a:gd name="adj2" fmla="val 27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34"/>
          <p:cNvSpPr/>
          <p:nvPr/>
        </p:nvSpPr>
        <p:spPr>
          <a:xfrm>
            <a:off x="6515280" y="2946240"/>
            <a:ext cx="380880" cy="838440"/>
          </a:xfrm>
          <a:prstGeom prst="downArrow">
            <a:avLst>
              <a:gd name="adj1" fmla="val 50000"/>
              <a:gd name="adj2" fmla="val 2751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35"/>
          <p:cNvSpPr/>
          <p:nvPr/>
        </p:nvSpPr>
        <p:spPr>
          <a:xfrm>
            <a:off x="184320" y="4014720"/>
            <a:ext cx="3854160" cy="1557000"/>
          </a:xfrm>
          <a:prstGeom prst="rect">
            <a:avLst/>
          </a:prstGeom>
          <a:solidFill>
            <a:srgbClr val="ff99cc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растворы и расплавы которых проводят электрический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44"/>
          <p:cNvSpPr/>
          <p:nvPr/>
        </p:nvSpPr>
        <p:spPr>
          <a:xfrm>
            <a:off x="2324160" y="304920"/>
            <a:ext cx="4495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Вещест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5"/>
          <p:cNvSpPr/>
          <p:nvPr/>
        </p:nvSpPr>
        <p:spPr>
          <a:xfrm>
            <a:off x="2666880" y="1447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46">
            <a:hlinkClick r:id="rId1" action="ppaction://hlinksldjump"/>
          </p:cNvPr>
          <p:cNvSpPr/>
          <p:nvPr/>
        </p:nvSpPr>
        <p:spPr>
          <a:xfrm>
            <a:off x="1866960" y="135576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Tahoma"/>
              </a:rPr>
              <a:t>Электропрово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47"/>
          <p:cNvSpPr/>
          <p:nvPr/>
        </p:nvSpPr>
        <p:spPr>
          <a:xfrm flipH="1">
            <a:off x="2285640" y="1981080"/>
            <a:ext cx="685800" cy="53352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48"/>
          <p:cNvSpPr/>
          <p:nvPr/>
        </p:nvSpPr>
        <p:spPr>
          <a:xfrm>
            <a:off x="5867280" y="1905120"/>
            <a:ext cx="838440" cy="45720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50"/>
          <p:cNvSpPr/>
          <p:nvPr/>
        </p:nvSpPr>
        <p:spPr>
          <a:xfrm>
            <a:off x="228600" y="2514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52"/>
          <p:cNvSpPr/>
          <p:nvPr/>
        </p:nvSpPr>
        <p:spPr>
          <a:xfrm>
            <a:off x="4343400" y="256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электро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53"/>
          <p:cNvSpPr/>
          <p:nvPr/>
        </p:nvSpPr>
        <p:spPr>
          <a:xfrm>
            <a:off x="4876920" y="4014720"/>
            <a:ext cx="3962160" cy="1557000"/>
          </a:xfrm>
          <a:prstGeom prst="rect">
            <a:avLst/>
          </a:prstGeom>
          <a:solidFill>
            <a:srgbClr val="ffcc99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растворы и расплавы которых не проводят электрический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228600" y="106668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е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ты подчеркните одной чертой, неэлектролиты – двумя чер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тавьте за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амми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хлорида каль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 кал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ксид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л, раствор сах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ная кисл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 каль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до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хлороводорода (соляная кислота) – это не просто электролит, 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й электрол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олее 99% молекул HCl в растворе распадаются на ионы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этому обратную стрелку в уравнении диссоциации HCl изображают короткой или вообще не пишут. Такие же свойства у растворов HBr (бромоводородная кислота) и HI (иодоводородная кислота). Однако вполне похожее соединение – фтороводород HF – не проявляет свойств сильного электролита и в растворе ток проводит плохо. Здесь, наоборот, в уравнении диссоциации нужна более длинная обратная стрелка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Рисунок 3" descr="http://www.hemi.nsu.ru/im221_02.gif"/>
          <p:cNvPicPr/>
          <p:nvPr/>
        </p:nvPicPr>
        <p:blipFill>
          <a:blip r:embed="rId2"/>
          <a:stretch/>
        </p:blipFill>
        <p:spPr>
          <a:xfrm>
            <a:off x="1219320" y="5486400"/>
            <a:ext cx="6933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536400" y="-347760"/>
            <a:ext cx="8150400" cy="68090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3" descr="http://www.hemi.nsu.ru/im221_02.gif"/>
          <p:cNvPicPr/>
          <p:nvPr/>
        </p:nvPicPr>
        <p:blipFill>
          <a:blip r:embed="rId2"/>
          <a:stretch/>
        </p:blipFill>
        <p:spPr>
          <a:xfrm>
            <a:off x="1676520" y="3600360"/>
            <a:ext cx="59817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1</cp:lastModifiedBy>
  <dcterms:modified xsi:type="dcterms:W3CDTF">2022-11-26T04:39:38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